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87E-3A81-429D-9B50-C3C01505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D6D-3636-4F1B-BBA3-53462F1B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E443-FFBA-4561-B306-FFD9AC74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777-7B95-4FFE-9CD5-B3C877E2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9E47-8664-4AAB-902B-833524B1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9A52-769D-4810-9CA0-DE22E99A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D3D0-10A6-4B48-A4FB-FAF4814D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138B-620E-448A-90C0-455EF60B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A64B-692A-4682-9FA8-586C75BD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49C3-29D1-4A14-805E-647E247F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0B6D-69A4-4560-B77D-E549AC40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4DD8-C544-4B60-874B-4C824713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F4BD-13CA-4573-851A-67224B05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A39E-CB13-4AEE-A5E0-1A673835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97DE-545A-4FDD-9461-094EAFFD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6639-8F13-48AD-A1CA-231B3EB8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E497-C6B7-4C28-B828-E1F3775C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5F6C-B352-4EA0-8A34-C103F42A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F44B-DB31-434A-BEAA-7AA4477C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EE8-6122-4EF0-931F-314E73B5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E45-3F51-4ACA-8EB5-353DA827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AB29-CDEA-4156-97F8-48C22799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0E5-ADB1-4714-B70D-CB9BDA2D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B0B-BFFD-480D-B909-AEEBD4F2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8354-620F-4FFB-8D31-1CF35B237B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9D79-5A63-47A4-B5DB-B53811AA81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ulthood(200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O. To understand how black people are represented in the 2006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6048720" cy="4000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164360" y="256536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this image change your view of hi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tch the fil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take notes whilst watching the fil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how different groups of people are being represented in particular black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hey been put into the mediated stereotyp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think this is a true reflection of black people at th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ories could we app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lso consider mise-en-sce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al Expressions/body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se things as a whole contribute to the representation of black culture within the fil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presentation Babyl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the different representations you saw within the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3068640"/>
            <a:ext cx="4249800" cy="2448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830760"/>
            <a:ext cx="29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ons in KiDult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have we learn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representations you sa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theory you could app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the overall representation of black people in the film w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8:40:40Z</dcterms:created>
  <dc:creator>martinaos</dc:creator>
  <dc:description/>
  <dc:language>en-US</dc:language>
  <cp:lastModifiedBy>martinaos</cp:lastModifiedBy>
  <dcterms:modified xsi:type="dcterms:W3CDTF">2010-10-22T07:50:46Z</dcterms:modified>
  <cp:revision>6</cp:revision>
  <dc:subject/>
  <dc:title>Babylon (1980)</dc:title>
</cp:coreProperties>
</file>